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5.wmf" ContentType="image/x-wmf"/>
  <Override PartName="/ppt/media/image51.png" ContentType="image/png"/>
  <Override PartName="/ppt/media/image49.wmf" ContentType="image/x-wmf"/>
  <Override PartName="/ppt/media/image143.png" ContentType="image/png"/>
  <Override PartName="/ppt/media/image100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149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wmf" ContentType="image/x-wmf"/>
  <Override PartName="/ppt/media/image50.wmf" ContentType="image/x-wmf"/>
  <Override PartName="/ppt/media/image147.wmf" ContentType="image/x-wmf"/>
  <Override PartName="/ppt/media/image144.wmf" ContentType="image/x-wmf"/>
  <Override PartName="/ppt/media/image53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48.wmf" ContentType="image/x-wmf"/>
  <Override PartName="/ppt/media/image15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46.wmf" ContentType="image/x-wmf"/>
  <Override PartName="/ppt/media/image140.wmf" ContentType="image/x-wmf"/>
  <Override PartName="/ppt/media/image54.wmf" ContentType="image/x-wmf"/>
  <Override PartName="/ppt/media/image35.wmf" ContentType="image/x-wmf"/>
  <Override PartName="/ppt/media/image158.wmf" ContentType="image/x-wmf"/>
  <Override PartName="/ppt/media/image61.wmf" ContentType="image/x-wmf"/>
  <Override PartName="/ppt/media/image137.wmf" ContentType="image/x-wmf"/>
  <Override PartName="/ppt/media/image6.png" ContentType="image/png"/>
  <Override PartName="/ppt/media/image136.wmf" ContentType="image/x-wmf"/>
  <Override PartName="/ppt/media/image135.png" ContentType="image/png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32.wmf" ContentType="image/x-wmf"/>
  <Override PartName="/ppt/media/image129.png" ContentType="image/png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D8D7-B9FB-43C5-84E4-37C584E53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6DBA-D9B7-4862-875B-B76FF4E8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A91D-164F-4E43-9B00-791C953D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702-AECA-4BA2-BF48-E4B2B7AD1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9D8-547E-4DF1-A54A-874E72D32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FC5D-6C60-42E6-A638-E657A6B1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9EC1-CC69-4CE5-B738-78C5A49C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885F-DA4A-430F-A6F0-63896493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87E5-E920-44B2-B7CC-296368B5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534C-7A13-48A9-A07D-C2753467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D777-1082-4F36-90A3-742BD60C3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8D5C-78F7-434E-BFD5-C698F76EA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524-61D6-4325-909A-8D7901C20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E87E-A088-494C-B678-34DC9B92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1F3-00A9-48F5-A04C-8A6B6CEEA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88A5-5754-4502-89D2-01EFFB81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209A-7C85-449B-A12D-96245CEF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EE25-BBF9-422F-9E78-B101DD238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C58A-D1DC-41D6-A487-8C8A2D9EB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75C5-4C92-4E93-AB1D-64613A44D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6601-195E-44A1-B15C-848086EB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D50-3A87-47FD-9515-12284927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EA4-4F12-4A31-A001-66B4DEB1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5E9D-41FA-48D4-AB53-6514B866D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1DA1-70CE-4711-BDA8-2A8A765B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A50-E2A6-4CDE-BDD0-2CB38271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51DD-1FEC-4C5B-AAC0-84596C210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B232-8CB3-4304-B0A3-31E20947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image" Target="../media/image1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png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3" descr="C:\Users\Sedgwick\AppData\Local\Microsoft\Windows\Temporary Internet Files\Content.IE5\TOVYX0VK\MC900445930[1].wmf"/>
          <p:cNvPicPr/>
          <p:nvPr/>
        </p:nvPicPr>
        <p:blipFill>
          <a:blip r:embed="rId6"/>
          <a:stretch/>
        </p:blipFill>
        <p:spPr>
          <a:xfrm>
            <a:off x="4267080" y="2055960"/>
            <a:ext cx="1670040" cy="167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C:\Users\Sedgwick\AppData\Local\Microsoft\Windows\Temporary Internet Files\Content.IE5\VA1SBUOT\MCj04325900000[1].png"/>
          <p:cNvPicPr/>
          <p:nvPr/>
        </p:nvPicPr>
        <p:blipFill>
          <a:blip r:embed="rId7"/>
          <a:stretch/>
        </p:blipFill>
        <p:spPr>
          <a:xfrm>
            <a:off x="3657600" y="175104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3" descr="C:\Users\Sedgwick\AppData\Local\Microsoft\Windows\Temporary Internet Files\Content.IE5\X1IG4AF2\MC900436882[1].png"/>
          <p:cNvPicPr/>
          <p:nvPr/>
        </p:nvPicPr>
        <p:blipFill>
          <a:blip r:embed="rId6"/>
          <a:stretch/>
        </p:blipFill>
        <p:spPr>
          <a:xfrm>
            <a:off x="1143000" y="4038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Sedgwick</cp:lastModifiedBy>
  <dcterms:modified xsi:type="dcterms:W3CDTF">2010-06-23T01:59:28Z</dcterms:modified>
  <cp:revision>93</cp:revision>
  <dc:subject>Keyboarding</dc:subject>
  <dc:title>Kindergarten Adventures in Keyboarding</dc:title>
</cp:coreProperties>
</file>